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D0C5-4BC8-4A1D-AD50-309F81521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4E19-C345-49B5-9453-C6DA50EA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EED8-1284-4BE9-AEFB-2F13657E9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84B1-806B-4045-8313-98E07DA6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B2A3-CA6D-4A36-A580-D7E77F11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6CBB-7A7D-4D64-BDC2-C7F16265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96C2-F4C6-43C0-B6C8-5CD0FE52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5BA0-D266-4287-B186-1A5EE2E4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65AA-E76C-4ACA-B2A6-69BF3195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D932-FAF2-47D6-A5D7-BDD368B4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152D-A684-4F33-9C14-B89AD5FE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8DAF-E82E-4E26-9836-8D0DC1A6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19D5-8CA0-4869-AAEE-0CEA4AA763B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0E286B4D-C597-4F42-A3B6-6FC6516D7438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14200" y="2262240"/>
            <a:ext cx="9001080" cy="22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1.11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ς τα ἰδια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ἠλθ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και οἱ ἰδιοι αὐτον οὐ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αρελαβ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a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his own, and his own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receiv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him n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uke 4.9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ἠγαγ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δε αὐτον εἰς Ἰερουσαλημ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εἰπ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αὐτῳ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l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him to Jerusalem … an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ai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him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685800" y="2624040"/>
          <a:ext cx="7772400" cy="2590920"/>
        </p:xfrm>
        <a:graphic>
          <a:graphicData uri="http://schemas.openxmlformats.org/drawingml/2006/table">
            <a:tbl>
              <a:tblPr/>
              <a:tblGrid>
                <a:gridCol w="1271520"/>
                <a:gridCol w="3884760"/>
                <a:gridCol w="2616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e„det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ural Aorist Indic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saw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™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feug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ural Imperfect Indic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were flee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™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fug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ural Aorist Indic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fl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™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gineto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ingular Imperfect Indicativ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was happe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™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geneto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ingular Aorist Indicativ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happen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115"/>
          <p:cNvSpPr/>
          <p:nvPr/>
        </p:nvSpPr>
        <p:spPr>
          <a:xfrm>
            <a:off x="647640" y="1998720"/>
            <a:ext cx="3314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8"/>
          <p:cNvSpPr/>
          <p:nvPr/>
        </p:nvSpPr>
        <p:spPr>
          <a:xfrm>
            <a:off x="1714680" y="1319040"/>
            <a:ext cx="5715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1.1.4 Indicative 2</a:t>
            </a:r>
            <a:r>
              <a:rPr b="0" lang="en-GB" sz="29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 Aorist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74676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C3A1283F-4C0A-49E7-9FE3-0F532AC767F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-68400" y="271440"/>
            <a:ext cx="9283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6"/>
          <p:cNvSpPr/>
          <p:nvPr/>
        </p:nvSpPr>
        <p:spPr>
          <a:xfrm>
            <a:off x="6786720" y="6299280"/>
            <a:ext cx="208440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846B126C-2C94-495C-9B67-7A3C0F27914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95400" y="271440"/>
            <a:ext cx="8977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486080" y="1219320"/>
            <a:ext cx="6172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1.1.5 Other moods 2</a:t>
            </a:r>
            <a:r>
              <a:rPr b="0" lang="en-GB" sz="29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33520" y="184140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gments &amp; E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44440" y="3063960"/>
          <a:ext cx="8643960" cy="2773440"/>
        </p:xfrm>
        <a:graphic>
          <a:graphicData uri="http://schemas.openxmlformats.org/drawingml/2006/table">
            <a:tbl>
              <a:tblPr/>
              <a:tblGrid>
                <a:gridCol w="1513080"/>
                <a:gridCol w="4635360"/>
                <a:gridCol w="2495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αμβανω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 Nom. Sing. Present 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k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αβω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 Nom. Sing. Aorist 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ing tak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θει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Infini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come (undefined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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ἰδοντε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 Nom. Pl. Aorist 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ing se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ανθαν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ingular Present Impera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rn! (process/ongoing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CAC8990B-F41A-471D-A7F1-204632A74FF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95400" y="271440"/>
            <a:ext cx="8977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22200" y="2571840"/>
          <a:ext cx="7750080" cy="1431720"/>
        </p:xfrm>
        <a:graphic>
          <a:graphicData uri="http://schemas.openxmlformats.org/drawingml/2006/table">
            <a:tbl>
              <a:tblPr/>
              <a:tblGrid>
                <a:gridCol w="1497240"/>
                <a:gridCol w="2523960"/>
                <a:gridCol w="1582560"/>
                <a:gridCol w="2146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νω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νω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ν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νωμε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νωτ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νωσα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ν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νω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νων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νου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νοντ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Text Box 38"/>
          <p:cNvSpPr/>
          <p:nvPr/>
        </p:nvSpPr>
        <p:spPr>
          <a:xfrm>
            <a:off x="609480" y="1857240"/>
            <a:ext cx="4176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i)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γινωσκω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ταβαινω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12840" y="4235400"/>
          <a:ext cx="9144000" cy="1798560"/>
        </p:xfrm>
        <a:graphic>
          <a:graphicData uri="http://schemas.openxmlformats.org/drawingml/2006/table">
            <a:tbl>
              <a:tblPr/>
              <a:tblGrid>
                <a:gridCol w="1658880"/>
                <a:gridCol w="3325680"/>
                <a:gridCol w="1765440"/>
                <a:gridCol w="23940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εβη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εβης,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εβη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εβημε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εβητ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εβησα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αβηθ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αβητ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ταβηναι</a:t>
                      </a:r>
                      <a:r>
                        <a:rPr b="0" lang="en-GB" sz="2200" spc="-1" strike="noStrike">
                          <a:solidFill>
                            <a:srgbClr val="ffcc66"/>
                          </a:solidFill>
                          <a:latin typeface="Greek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αβα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αβαντε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152"/>
          <p:cNvSpPr/>
          <p:nvPr/>
        </p:nvSpPr>
        <p:spPr>
          <a:xfrm>
            <a:off x="1905120" y="1214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1.1.6 Unusual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642960" y="1884240"/>
            <a:ext cx="8072280" cy="30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ii)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orists with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orist ending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ἠλθ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π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δ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ἠνεγκο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e sometimes used with the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orist endings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.g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π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ather than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π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Acts 16.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ἠλθ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τε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ather than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ἠλθ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ε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Matthew 25.36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1700BFDF-3FBC-4053-AD09-C08381C9CD9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95400" y="271440"/>
            <a:ext cx="8977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6AC331CD-1F8C-4FC1-B57C-BCEC2FC5BC7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28560" y="2214720"/>
            <a:ext cx="78868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 Cor. 1.17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 γαρ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πεστειλ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με Χριστος βαπτιζε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ecause Chris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d not se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me to baptis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uke 11.49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ποστελῶ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εἰς αὐτους προφητας και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ποστολ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 will se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to them prophets and apostles 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495360" y="1143000"/>
            <a:ext cx="7648560" cy="44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different stem is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σ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s added (which you would expect for the Futur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 endings from the Present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φιλεω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e used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(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ει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ε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 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υμε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 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ειτ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υσι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 Aori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different stem is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s added (which you would expect for the Aoris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 augment and endings of the (1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 Aorist are used as normal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33520" y="5619600"/>
            <a:ext cx="8076960" cy="5814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 liquid verbs there is no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in the Future or Aor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8C385E1A-A7F9-4933-8993-24FBB5B426A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1276200" y="2643120"/>
          <a:ext cx="6510600" cy="1965240"/>
        </p:xfrm>
        <a:graphic>
          <a:graphicData uri="http://schemas.openxmlformats.org/drawingml/2006/table">
            <a:tbl>
              <a:tblPr/>
              <a:tblGrid>
                <a:gridCol w="1209960"/>
                <a:gridCol w="1766880"/>
                <a:gridCol w="1766880"/>
                <a:gridCol w="1766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πει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περ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σπειρ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ra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ει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ερ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γειρ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ki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κτειν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κτεν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εκτειν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Text Box 79"/>
          <p:cNvSpPr/>
          <p:nvPr/>
        </p:nvSpPr>
        <p:spPr>
          <a:xfrm>
            <a:off x="1790640" y="1271520"/>
            <a:ext cx="5562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1.2.1 Common Liquid Verb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0"/>
          <p:cNvSpPr/>
          <p:nvPr/>
        </p:nvSpPr>
        <p:spPr>
          <a:xfrm>
            <a:off x="871560" y="1928880"/>
            <a:ext cx="74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ny use the same stem in the Aorist as the Pres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4"/>
          <p:cNvSpPr/>
          <p:nvPr/>
        </p:nvSpPr>
        <p:spPr>
          <a:xfrm>
            <a:off x="871560" y="482436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milar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552680" y="5484960"/>
          <a:ext cx="6091200" cy="501480"/>
        </p:xfrm>
        <a:graphic>
          <a:graphicData uri="http://schemas.openxmlformats.org/drawingml/2006/table">
            <a:tbl>
              <a:tblPr/>
              <a:tblGrid>
                <a:gridCol w="1147680"/>
                <a:gridCol w="1647720"/>
                <a:gridCol w="1648080"/>
                <a:gridCol w="164772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lift 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ἰ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ρ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ρ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38636A5F-E59C-4D50-B353-4FE633BF0C4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ECB35CCF-C415-4A52-804B-6CD1813A12F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04920" y="12142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thers move from a final double consonant in the Present, to a single consonant in the Future, and to a single consonant with a lengthened vowel in the Aorist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14240" y="2637000"/>
          <a:ext cx="7715520" cy="1006200"/>
        </p:xfrm>
        <a:graphic>
          <a:graphicData uri="http://schemas.openxmlformats.org/drawingml/2006/table">
            <a:tbl>
              <a:tblPr/>
              <a:tblGrid>
                <a:gridCol w="1928880"/>
                <a:gridCol w="1928880"/>
                <a:gridCol w="1928880"/>
                <a:gridCol w="192888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στε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στελ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εστειλ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nnou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γγε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γγελ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γγειλ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Text Box 25"/>
          <p:cNvSpPr/>
          <p:nvPr/>
        </p:nvSpPr>
        <p:spPr>
          <a:xfrm>
            <a:off x="304920" y="390204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me are similar, but show no change in the Future since in the Present their final vowel is already short, and their final consonant is not doub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500120" y="5214960"/>
          <a:ext cx="6096240" cy="9144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rem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ν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νε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μει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jud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ριν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ρινε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ρι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0737213C-B45E-461F-A152-8D4A3F6A529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71440" y="1214280"/>
            <a:ext cx="90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me follow the same general principles, but have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orists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843120" y="1922400"/>
          <a:ext cx="7467480" cy="1006560"/>
        </p:xfrm>
        <a:graphic>
          <a:graphicData uri="http://schemas.openxmlformats.org/drawingml/2006/table">
            <a:tbl>
              <a:tblPr/>
              <a:tblGrid>
                <a:gridCol w="1312560"/>
                <a:gridCol w="2051280"/>
                <a:gridCol w="2263680"/>
                <a:gridCol w="18399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d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θνῃσκ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θανε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εθανο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thr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 Box 45"/>
          <p:cNvSpPr/>
          <p:nvPr/>
        </p:nvSpPr>
        <p:spPr>
          <a:xfrm>
            <a:off x="284040" y="3255840"/>
            <a:ext cx="8758440" cy="28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John 15.10: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ενειτε ἐν τῃ ἀγαπῃ μ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You will remain in my love.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thew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1.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οτε Ἰησους ἀπεστειλεν δυο μαθητ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Then Jesus sent two disciples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3465119A-3B73-4862-A709-67884D219C6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104840" y="1538280"/>
            <a:ext cx="6934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1.2.2 Accents in the Futur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752480" y="2743200"/>
            <a:ext cx="563904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liquid verb has a circumflex if  - and only if - it is Futur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24000" y="4286160"/>
            <a:ext cx="853416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ένει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s Present (you remain)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ενεῖ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s Future (you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ill remain)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057400" y="1676520"/>
            <a:ext cx="5029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1.1 The princip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214280" y="3048120"/>
            <a:ext cx="6705720" cy="20908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The 2</a:t>
            </a:r>
            <a:r>
              <a:rPr b="0" lang="en-GB" sz="29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orist has the same meaning as the 1</a:t>
            </a:r>
            <a:r>
              <a:rPr b="0" lang="en-GB" sz="29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orist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A verb will have </a:t>
            </a:r>
            <a:r>
              <a:rPr b="0" i="1" lang="en-GB" sz="2900" spc="-1" strike="noStrike">
                <a:solidFill>
                  <a:srgbClr val="ffffff"/>
                </a:solidFill>
                <a:latin typeface="Arial"/>
              </a:rPr>
              <a:t>either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 1</a:t>
            </a:r>
            <a:r>
              <a:rPr b="0" lang="en-GB" sz="29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orist </a:t>
            </a:r>
            <a:r>
              <a:rPr b="0" i="1" lang="en-GB" sz="29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 2</a:t>
            </a:r>
            <a:r>
              <a:rPr b="0" lang="en-GB" sz="29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orist but </a:t>
            </a:r>
            <a:r>
              <a:rPr b="0" i="1" lang="en-GB" sz="29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bot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A48CD980-732F-445D-9F9E-D02F47A7FD42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316EA6A2-EA1A-45D2-BDBB-3DD0E7478EA3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714680" y="1241280"/>
            <a:ext cx="57909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1.1.2 Compare in Englis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19040" y="1981080"/>
            <a:ext cx="830592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ost English words form their past tense by adding –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.g. walk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walked; row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rowed; attack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ttack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ome words form their past tense by changing their stem instead of adding -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.g. sing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sung; see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saw; throw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thr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Only very rare words can do bo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.g. hang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hung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hang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95360" y="1200240"/>
          <a:ext cx="8153280" cy="500544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glis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 is a standard form of the past ten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st verbs have a 1st Aori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rtain words follow a different patter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 verbs have a 2nd Aori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few words can follow both pattern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verb has a 1st and a 2nd Aori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normal pattern forms the past tense by adding –ed to the st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st Aorists are formed by adding s to the st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other group form the past tense by changing the stem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nd Aorists are formed by changing their stem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826B1CE9-BE74-4ABF-87AC-29EF3CE3F2A1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838080" y="1447920"/>
            <a:ext cx="74678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1.1.3 The formation of the 2</a:t>
            </a:r>
            <a:r>
              <a:rPr b="0" lang="en-GB" sz="29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orist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905120" y="2438280"/>
            <a:ext cx="5333760" cy="6426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2</a:t>
            </a:r>
            <a:r>
              <a:rPr b="0" lang="en-GB" sz="2800" spc="-1" strike="noStrike" baseline="30000">
                <a:solidFill>
                  <a:srgbClr val="ffffff"/>
                </a:solidFill>
                <a:latin typeface="Calibri"/>
                <a:ea typeface="Times New Roman"/>
              </a:rPr>
              <a:t>nd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Aorist </a:t>
            </a:r>
            <a:r>
              <a:rPr b="0" lang="en-GB" sz="3600" spc="-1" strike="noStrike">
                <a:solidFill>
                  <a:srgbClr val="ffffff"/>
                </a:solidFill>
                <a:latin typeface="Symbol"/>
                <a:ea typeface="Symbol"/>
              </a:rPr>
              <a:t>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Changed Stem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914400" y="3733920"/>
            <a:ext cx="7391520" cy="18180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is impossible to spot a 2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or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less you recognise the 2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orist 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arn Them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8C993EFC-FABC-43F1-9842-BD0B3A68340F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405080" y="1765440"/>
          <a:ext cx="6095880" cy="466380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s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ἁμαρταν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ἡμαρτ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d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θνῃσκ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εθαν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thr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λ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f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ὑπισκ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ὑρ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le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ταλειπ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τελιπ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ta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αμβαν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αβ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lea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ανθαν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μαθ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suf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χ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παθ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dr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ιν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πι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fl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ευγ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υγ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100"/>
          <p:cNvSpPr/>
          <p:nvPr/>
        </p:nvSpPr>
        <p:spPr>
          <a:xfrm>
            <a:off x="214200" y="1214280"/>
            <a:ext cx="88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ome 2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orist stems are shortened versions of the Present stem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3B284FB6-54EB-4269-86DF-8B630E115306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600200" y="1828800"/>
          <a:ext cx="5943600" cy="146376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1981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g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ιν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-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kn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ινωσκ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ν-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 Box 41"/>
          <p:cNvSpPr/>
          <p:nvPr/>
        </p:nvSpPr>
        <p:spPr>
          <a:xfrm>
            <a:off x="428760" y="121932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se include two whose endings are a little different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23880" y="4324320"/>
          <a:ext cx="6096240" cy="18288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lea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γ-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γαγ-ο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ha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χ-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σχ-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fal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ιπτ-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πεσ-ο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118"/>
          <p:cNvSpPr/>
          <p:nvPr/>
        </p:nvSpPr>
        <p:spPr>
          <a:xfrm>
            <a:off x="452520" y="3683160"/>
            <a:ext cx="79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thers make other minor adjustments to the stem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1E86F93C-B36B-46AF-BB5B-B5FBE6AD4624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670040"/>
          <a:ext cx="6096240" cy="9604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becom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ιν-ομαι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εν-ομη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24"/>
          <p:cNvSpPr/>
          <p:nvPr/>
        </p:nvSpPr>
        <p:spPr>
          <a:xfrm>
            <a:off x="571680" y="120168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ne is deponent (and therefore has deponent endings)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3880" y="3402000"/>
          <a:ext cx="6096240" cy="29718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co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ρχ-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λθ-ο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γ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ἰπ-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e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σθι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αγ-ο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ρα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ἰδ-ο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car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ερ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νεγκ-ο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 Box 61"/>
          <p:cNvSpPr/>
          <p:nvPr/>
        </p:nvSpPr>
        <p:spPr>
          <a:xfrm>
            <a:off x="571680" y="2643120"/>
            <a:ext cx="79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ve have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orists that bear no resemblance to their forms in the Present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F507789D-86F2-4F5C-8679-DD6CB5EB057D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E7366145-81C5-4C33-8F36-300DD6A3143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638360" y="1413000"/>
            <a:ext cx="5867280" cy="10159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orist Indicative – Imperfect E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orist Other Moods – Present Ending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25280" y="2840040"/>
          <a:ext cx="8893440" cy="2743200"/>
        </p:xfrm>
        <a:graphic>
          <a:graphicData uri="http://schemas.openxmlformats.org/drawingml/2006/table">
            <a:tbl>
              <a:tblPr/>
              <a:tblGrid>
                <a:gridCol w="1609920"/>
                <a:gridCol w="1412640"/>
                <a:gridCol w="1498680"/>
                <a:gridCol w="1690920"/>
                <a:gridCol w="1323720"/>
                <a:gridCol w="1357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nd Sing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s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nd Pl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ε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pl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asc. nom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οντ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1:29:26Z</dcterms:created>
  <dc:creator>Sarah</dc:creator>
  <dc:description/>
  <dc:language>en-US</dc:language>
  <cp:lastModifiedBy>Sarah</cp:lastModifiedBy>
  <dcterms:modified xsi:type="dcterms:W3CDTF">2008-09-17T16:32:11Z</dcterms:modified>
  <cp:revision>38</cp:revision>
  <dc:subject/>
  <dc:title>Slide 1</dc:title>
</cp:coreProperties>
</file>